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7187-543A-4407-8065-2802FF6F2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1066-6408-4750-9A84-72900BD8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6AFA-EB10-402C-A7A6-C2B57FFD1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6110-D805-4EAA-8344-0D9269CBA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2F56-6DB4-4C2D-B095-46320BEB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2A9E-180E-4A16-BE25-FBDA02AD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2C41-2B55-47BA-A642-8CE4A9A4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4909-DA0F-4D7A-8B9D-98D476B7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004D-A2A5-4DFB-B5E8-0E10C1F8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89E3-B54E-4E8D-B92C-5D7720BA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2729-8464-4B06-A070-9F5064F3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66C1-A91A-47FB-84E9-E18C65CB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5D28-C182-4A5B-A527-7DAF03230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68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cc6600"/>
                </a:solidFill>
                <a:latin typeface="Arial"/>
              </a:rPr>
              <a:t>أسماء خالدة..من محاضرات شرح الاربعين النوو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00000" y="436536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600" spc="-1" strike="noStrike">
                <a:solidFill>
                  <a:srgbClr val="967f1e"/>
                </a:solidFill>
                <a:latin typeface="Arial"/>
              </a:rPr>
              <a:t>للشيخ : سليمان الله</a:t>
            </a:r>
            <a:r>
              <a:rPr b="1" lang="ar-SA" sz="3600" spc="-1" strike="noStrike">
                <a:solidFill>
                  <a:srgbClr val="967f1e"/>
                </a:solidFill>
                <a:latin typeface="Arial"/>
              </a:rPr>
              <a:t>ي</a:t>
            </a:r>
            <a:r>
              <a:rPr b="1" lang="ar-KW" sz="3600" spc="-1" strike="noStrike">
                <a:solidFill>
                  <a:srgbClr val="967f1e"/>
                </a:solidFill>
                <a:latin typeface="Arial"/>
              </a:rPr>
              <a:t>م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19760" y="836640"/>
            <a:ext cx="35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67f1e"/>
                </a:solidFill>
                <a:latin typeface="Arial"/>
              </a:rPr>
              <a:t>ترجمه ابن عم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95280" y="1987200"/>
            <a:ext cx="1019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عبد الله ابن عمر صاحبى جليل اسلم مع ابيه وهو صغير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قال الذهبى عنه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: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الامام القدوة شيخ الاسلام ابو عبد الرحمن القرش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العدوى المكى المدنى اسل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15920" y="3716280"/>
            <a:ext cx="7947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هو صغير وهاجر مع ابيه ولم يحتلم واستصغر يوم اح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فأول غزواته هى الخندق</a:t>
            </a: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هو مما كان بايع تحت الشجرة روى علم كثير ناف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عن النبى صلى الله عليه وسل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هو من المكثرين فى علم الحديث عن النبى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8360" y="252000"/>
            <a:ext cx="8161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يقول ابن عمر 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”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عرضنى الرسول فى يوم احد وانا ابن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14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فرفضن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وعرضنى فى الخند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وانا ابن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15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فاجزنى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000" spc="-1" strike="noStrike">
                <a:solidFill>
                  <a:srgbClr val="cc6600"/>
                </a:solidFill>
                <a:latin typeface="Arial"/>
              </a:rPr>
              <a:t>رواة البخارى ومسلم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،،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فقد كان مجاهد منذ نعومه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اضفا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كان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عابد كثير العبادة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وقيل لنافع ماذا كان ابن عمروفى منزله قال لاتطيقونه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يتوضا لكل صلاة والمصحف فيما بينه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3284640"/>
            <a:ext cx="62755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فقد قال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النبى </a:t>
            </a:r>
            <a:r>
              <a:rPr b="1" lang="ar-KW" sz="2400" spc="-1" strike="noStrike">
                <a:solidFill>
                  <a:srgbClr val="967f1e"/>
                </a:solidFill>
                <a:latin typeface="Arial"/>
              </a:rPr>
              <a:t>صلى الله عليه وسلم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عن عبد الله ابن ع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نعم الرجل عبد الله لو كان يصل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ي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من الليل 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قال سالم فكان بعدها لاينام من الليل الا قليل 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..</a:t>
            </a:r>
            <a:r>
              <a:rPr b="1" lang="ar-SA" sz="2000" spc="-1" strike="noStrike">
                <a:solidFill>
                  <a:srgbClr val="cc6600"/>
                </a:solidFill>
                <a:latin typeface="Arial"/>
              </a:rPr>
              <a:t>رواة البخار ومسل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قيل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فى روايه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نعم عبد الله رجل لو كان يكثر الصلاة باليل 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"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فيقول الحافظ ابن حجر بمقتضاه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ان من كان يصل اللي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يوصف بكونه نعم الرجل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987840" y="621000"/>
            <a:ext cx="11310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كان عمر من الزهاد فقال عنه ابن مسعود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”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ن املك شباب قري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 نفسه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عن الدنيا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هو ابن عمر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قد اتينا ونحن متوافرو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ما قينا شاب املك لنفسه من ابن عمر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قالت عائشه رضى الله عنه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ارايت احد الزم من الامر الاو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ن ابن عمر 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"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91880" y="3357720"/>
            <a:ext cx="781308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وقال نافع كلما قرا ابن عمر قوله تعال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“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الم يان للذين ءامنوا ان تخشع قلوب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 لذكر الله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”</a:t>
            </a:r>
            <a:r>
              <a:rPr b="1" lang="ar-KW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بكى حتى يغلبه البكاء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وذكر انه كلما ذك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الرسول صلى الله عليه وسلم بكى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16000" y="692280"/>
            <a:ext cx="7176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روى عن النبى قال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احق امرء مسلم له شىء يوصى به يبيت فوق ليلتين الا ووصيت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كتوبه عند رأسه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قال ابن عمر فو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الله ما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رت علي ليله منذ ان سمعت رسول الله يقول ذل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 الا وعندي وصيت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1480" y="3860640"/>
            <a:ext cx="686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وتوفى ابن عمر وهو عمرة 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85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KW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س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 .فى عام </a:t>
            </a:r>
            <a:r>
              <a:rPr b="1" lang="ar-KW" sz="3200" spc="-1" strike="noStrike">
                <a:solidFill>
                  <a:srgbClr val="cc6600"/>
                </a:solidFill>
                <a:latin typeface="Arial"/>
              </a:rPr>
              <a:t>73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 من الهج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 rot="21210000">
            <a:off x="0" y="980640"/>
            <a:ext cx="9144000" cy="4680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20493600">
            <a:off x="401400" y="2060640"/>
            <a:ext cx="755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967f1e"/>
                </a:solidFill>
                <a:latin typeface="Arial"/>
              </a:rPr>
              <a:t>اعداد طالبا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967f1e"/>
                </a:solidFill>
                <a:latin typeface="Arial"/>
              </a:rPr>
              <a:t>ملتقى طالبات العل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13:10:35Z</dcterms:created>
  <dc:creator> HEART</dc:creator>
  <dc:description/>
  <cp:keywords/>
  <dc:language>en-US</dc:language>
  <cp:lastModifiedBy>xp</cp:lastModifiedBy>
  <dcterms:modified xsi:type="dcterms:W3CDTF">2007-07-02T10:47:08Z</dcterms:modified>
  <cp:revision>3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11025</vt:lpwstr>
  </property>
</Properties>
</file>